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5.png" ContentType="image/png"/>
  <Override PartName="/ppt/media/image9.png" ContentType="image/png"/>
  <Override PartName="/ppt/media/image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71C57-9100-417D-BA47-68022B641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225ED-298D-4137-8B65-B80B49284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F51AD-F202-4085-8B8D-6A190B7C6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49DA2-7A39-41E1-AB9E-2A07E51B2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9217C-6925-499D-90AF-3A0A3B8DE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5B65D-18DA-4927-87F0-A89866481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64529-20F8-4662-B7C8-59204B633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46500-FC0B-410C-A13A-6E3799E80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AB72A-EB2B-463C-92C7-F1C74F54E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EB4A4-FD5B-4150-AB0D-3D19283F0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D0EE0-BAA7-4C04-8F18-FCCFF6826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C227D-843C-4ADF-B5B3-D795D53F4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D12C3-EE1C-4B2D-9525-B1FF57E01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97CB4-1630-48A8-ACC3-97A27235B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8C869-55DE-4FE4-83B2-4BF063D38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91BE9-4908-4809-9038-B091906AE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B8B4C-345B-48F6-AEE4-D52B3E683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1FE2CF-7D6A-4CC8-8FE4-3E803C3833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60AD1-7F54-47C9-8CDC-98D46E4DC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1C0D8-AC05-40F2-A5DB-064412823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F5B90-490A-413F-BD2A-0CA4BC1E2A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A97DD-645A-4DCC-8B04-A0ABCCAEFB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CE8BB-32B8-4E6C-B4D6-BB51E2AB5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089432-E83F-4902-A56B-871207A3E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5098A-5BBF-4847-BB03-B5513971E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8515B-D06D-4946-AA57-59F77519F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B1229-A5AC-4C97-BB9E-7E12C4286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49F3F-65FC-42BB-80B9-F47E5C498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E93B86-4594-4068-9BBB-7FF952C836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200B5C-760D-4598-8A18-0C8E11837A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6807A7-2FD6-478E-A25C-E07D713093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F50309-90EB-49C6-A227-AE249A7584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596B32-EC69-4410-9A01-101C29605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ABD8F-2570-467C-A4C3-F963BE3A2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83A90-958F-4223-AAC8-013B8BD19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9BDEA-AF32-4091-9E6E-4F659CF21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57856-E4DC-4A06-B835-8D96998B6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D98D4-FA8E-4C55-817B-6C007E62AD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2759B-348F-43D4-A173-CD93550A22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5165B-A5B0-46BA-89A7-C1C06A309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F8F760-4C41-49CD-885C-F5D9F500B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EBB7F6-C1FC-4EF6-BD25-A079512631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887C3A-E4B3-4333-8353-F8533387BD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5E6E6D-E01B-42AC-89E9-89DC1D1211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5F1AF-9171-4EF6-9B68-9D213B19B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24B2CF-458D-411B-98C2-45B2EF1EFC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F7FE1-8578-418A-B82F-B884B51CB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AB5F92-6CF7-47C3-8BF3-34ABB9894A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EA7E83-737F-48E3-B7FB-80CB86D19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C5E7F5-8191-43C0-A84E-E9E759410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B0848C-E7EA-4F81-936E-714906488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A35D8-E3DA-4AC8-B1AF-1C83BE213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B8FB1-4E26-4B29-897F-285B7352D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D4FBD-FE87-46DB-AA50-D906228A88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E6F9A8-9D28-4BF8-8698-65F550AE49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683AC-51D9-4791-8258-61277D285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D3EFB0-F896-41DA-BF7A-A4DCD78913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7BE82-54C3-4EB1-AF1C-00702591F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2DB96-EEDE-4C42-801D-90A31873E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C28A5-9C2C-4A71-ABC4-393F3C586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8BBF-20C8-49A7-BAD8-728D0F9A87E0}"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6D22-C831-469F-9EC5-D21BF1BEB0BB}"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7ADD-463E-4936-9F9F-1BC617DB0457}"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FA42-3B03-4407-98F1-19B998AE339D}"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220F-14D1-4332-A2D8-BF6B10BA600A}"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getentrepreneurial.com/images/debt.gif&amp;imgrefurl=http://www.getentrepreneurial.com/finance-capital/8_easily_avoidable_causes_of_business_debt.html&amp;usg=__5nspPI9KYnM9EIDfTa2lj3tfKfE=&amp;h=1013&amp;w=750&amp;sz=47&amp;hl=en&amp;start=2&amp;tbnid=ghX9Z3L3apVmEM:&amp;tbnh=150&amp;tbnw=111&amp;prev=/images%3Fq%3Ddebt%26gbv%3D2%26hl%3Den"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images.google.com/imgres?imgurl=http://www.uscsumter.edu/newsletter/sep07/dollar-sign.jpg&amp;imgrefurl=http://www.uscsumter.edu/newsletter/sep07/synopsissep07.html&amp;usg=__v9sj_o8KcIbB2HWYwcxmHs4Ez5Y=&amp;h=731&amp;w=520&amp;sz=27&amp;hl=en&amp;start=1&amp;tbnid=kNorINouJjpG7M:&amp;tbnh=141&amp;tbnw=100&amp;prev=/images%3Fq%3Ddollar%2Bsign%26gbv%3D2%26hl%3Den"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584440" y="530280"/>
            <a:ext cx="660888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na and Alyssa</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244440" y="317520"/>
            <a:ext cx="7461360" cy="115092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cessionary Gap</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o close we would decrease inflation, but that would move us away from the natural rate of UE and increase UE rates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flationary Gap</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o close we would increase inflation, but that would move us UE rates down, but possibly past the natural rate of UE making inflation very high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in issue: moving away from the natural rate of UE</a:t>
            </a:r>
            <a:endParaRPr b="0" lang="en-US" sz="2600" spc="-1" strike="noStrike">
              <a:solidFill>
                <a:srgbClr val="000000"/>
              </a:solidFill>
              <a:latin typeface="Trebuchet MS"/>
            </a:endParaRPr>
          </a:p>
        </p:txBody>
      </p:sp>
      <p:pic>
        <p:nvPicPr>
          <p:cNvPr id="250" name="Picture 2" descr="http://tbn3.google.com/images?q=tbn:R-hLGxYRXntFmM:http://bradley.chattablogs.com/recession.jpg"/>
          <p:cNvPicPr/>
          <p:nvPr/>
        </p:nvPicPr>
        <p:blipFill>
          <a:blip r:embed="rId2"/>
          <a:stretch/>
        </p:blipFill>
        <p:spPr>
          <a:xfrm>
            <a:off x="6305400" y="533412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44440" y="317520"/>
            <a:ext cx="7461360" cy="1150920"/>
          </a:xfrm>
          <a:prstGeom prst="rect">
            <a:avLst/>
          </a:prstGeom>
          <a:ln w="0">
            <a:noFill/>
          </a:ln>
        </p:spPr>
      </p:pic>
      <p:sp>
        <p:nvSpPr>
          <p:cNvPr id="223" name=""/>
          <p:cNvSpPr txBox="1"/>
          <p:nvPr/>
        </p:nvSpPr>
        <p:spPr>
          <a:xfrm>
            <a:off x="456840" y="1600200"/>
            <a:ext cx="3521160" cy="452592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t save your way out of a recession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Balanced budget will only make a recession worse</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y to fix recession= increase spending</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crease G, decrease T, increase TP</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ce spending increased, national debt increases as well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Thus increasing public deb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24" name="Picture 2" descr="http://tbn1.google.com/images?q=tbn:ghX9Z3L3apVmEM:http://www.getentrepreneurial.com/images/debt.gif">
            <a:hlinkClick r:id="rId2"/>
          </p:cNvPr>
          <p:cNvPicPr/>
          <p:nvPr/>
        </p:nvPicPr>
        <p:blipFill>
          <a:blip r:embed="rId3"/>
          <a:stretch/>
        </p:blipFill>
        <p:spPr>
          <a:xfrm>
            <a:off x="4419720" y="1676520"/>
            <a:ext cx="28191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212760" y="317520"/>
            <a:ext cx="7493040" cy="1150920"/>
          </a:xfrm>
          <a:prstGeom prst="rect">
            <a:avLst/>
          </a:prstGeom>
          <a:ln w="0">
            <a:noFill/>
          </a:ln>
        </p:spPr>
      </p:pic>
      <p:sp>
        <p:nvSpPr>
          <p:cNvPr id="22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rowding In: increase in G leads to an increase in I. if the gov’t starts to stimulate the economy businesses will want to take advantage of the increase in AD and they will start to produce more (Horizontal rang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rowding Out: increase in G      increase in AD     increase in RGDP &amp; PL      increase in Demand for money      increase in MS &amp; interest rates      decrease in I     decrease in AD (vertical range)</a:t>
            </a:r>
            <a:endParaRPr b="0" lang="en-US" sz="2600" spc="-1" strike="noStrike">
              <a:solidFill>
                <a:srgbClr val="000000"/>
              </a:solidFill>
              <a:latin typeface="Trebuchet MS"/>
            </a:endParaRPr>
          </a:p>
        </p:txBody>
      </p:sp>
      <p:cxnSp>
        <p:nvCxnSpPr>
          <p:cNvPr id="227" name="Straight Arrow Connector 4"/>
          <p:cNvCxnSpPr/>
          <p:nvPr/>
        </p:nvCxnSpPr>
        <p:spPr>
          <a:xfrm>
            <a:off x="5029200" y="3886200"/>
            <a:ext cx="534240" cy="2160"/>
          </a:xfrm>
          <a:prstGeom prst="straightConnector1">
            <a:avLst/>
          </a:prstGeom>
          <a:ln w="11520">
            <a:solidFill>
              <a:srgbClr val="b83d68"/>
            </a:solidFill>
            <a:miter/>
            <a:tailEnd len="med" type="arrow" w="med"/>
          </a:ln>
        </p:spPr>
      </p:cxnSp>
      <p:cxnSp>
        <p:nvCxnSpPr>
          <p:cNvPr id="228" name="Straight Arrow Connector 8"/>
          <p:cNvCxnSpPr/>
          <p:nvPr/>
        </p:nvCxnSpPr>
        <p:spPr>
          <a:xfrm>
            <a:off x="1294920" y="4266720"/>
            <a:ext cx="381960" cy="2520"/>
          </a:xfrm>
          <a:prstGeom prst="straightConnector1">
            <a:avLst/>
          </a:prstGeom>
          <a:ln w="11520">
            <a:solidFill>
              <a:srgbClr val="b83d68"/>
            </a:solidFill>
            <a:miter/>
            <a:tailEnd len="med" type="arrow" w="med"/>
          </a:ln>
        </p:spPr>
      </p:cxnSp>
      <p:cxnSp>
        <p:nvCxnSpPr>
          <p:cNvPr id="229" name="Straight Arrow Connector 10"/>
          <p:cNvCxnSpPr/>
          <p:nvPr/>
        </p:nvCxnSpPr>
        <p:spPr>
          <a:xfrm>
            <a:off x="5029200" y="4266720"/>
            <a:ext cx="534240" cy="2520"/>
          </a:xfrm>
          <a:prstGeom prst="straightConnector1">
            <a:avLst/>
          </a:prstGeom>
          <a:ln w="11520">
            <a:solidFill>
              <a:srgbClr val="b83d68"/>
            </a:solidFill>
            <a:miter/>
            <a:tailEnd len="med" type="arrow" w="med"/>
          </a:ln>
        </p:spPr>
      </p:cxnSp>
      <p:cxnSp>
        <p:nvCxnSpPr>
          <p:cNvPr id="230" name="Straight Arrow Connector 12"/>
          <p:cNvCxnSpPr/>
          <p:nvPr/>
        </p:nvCxnSpPr>
        <p:spPr>
          <a:xfrm>
            <a:off x="3657600" y="4723920"/>
            <a:ext cx="457920" cy="2520"/>
          </a:xfrm>
          <a:prstGeom prst="straightConnector1">
            <a:avLst/>
          </a:prstGeom>
          <a:ln w="11520">
            <a:solidFill>
              <a:srgbClr val="b83d68"/>
            </a:solidFill>
            <a:miter/>
            <a:tailEnd len="med" type="arrow" w="med"/>
          </a:ln>
        </p:spPr>
      </p:cxnSp>
      <p:cxnSp>
        <p:nvCxnSpPr>
          <p:cNvPr id="231" name="Straight Arrow Connector 14"/>
          <p:cNvCxnSpPr/>
          <p:nvPr/>
        </p:nvCxnSpPr>
        <p:spPr>
          <a:xfrm>
            <a:off x="2819520" y="5105520"/>
            <a:ext cx="457920" cy="2160"/>
          </a:xfrm>
          <a:prstGeom prst="straightConnector1">
            <a:avLst/>
          </a:prstGeom>
          <a:ln w="11520">
            <a:solidFill>
              <a:srgbClr val="b83d68"/>
            </a:solidFill>
            <a:miter/>
            <a:tailEnd len="med" type="arrow" w="med"/>
          </a:ln>
        </p:spPr>
      </p:cxnSp>
      <p:cxnSp>
        <p:nvCxnSpPr>
          <p:cNvPr id="232" name="Straight Arrow Connector 16"/>
          <p:cNvCxnSpPr/>
          <p:nvPr/>
        </p:nvCxnSpPr>
        <p:spPr>
          <a:xfrm>
            <a:off x="5334120" y="5105520"/>
            <a:ext cx="381600" cy="2160"/>
          </a:xfrm>
          <a:prstGeom prst="straightConnector1">
            <a:avLst/>
          </a:prstGeom>
          <a:ln w="11520">
            <a:solidFill>
              <a:srgbClr val="b83d68"/>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17520"/>
            <a:ext cx="7493040" cy="1150920"/>
          </a:xfrm>
          <a:prstGeom prst="rect">
            <a:avLst/>
          </a:prstGeom>
          <a:ln w="0">
            <a:noFill/>
          </a:ln>
        </p:spPr>
      </p:pic>
      <p:sp>
        <p:nvSpPr>
          <p:cNvPr id="234" name=""/>
          <p:cNvSpPr txBox="1"/>
          <p:nvPr/>
        </p:nvSpPr>
        <p:spPr>
          <a:xfrm>
            <a:off x="45684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inition: Fed buying bond the gov’t is selling it creates money from gov’t debt </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blem = two expansionary policies will possibly cause more inflation </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c6c6c"/>
              </a:solidFill>
              <a:latin typeface="Trebuchet MS"/>
            </a:endParaRPr>
          </a:p>
        </p:txBody>
      </p:sp>
      <p:pic>
        <p:nvPicPr>
          <p:cNvPr id="235" name="Picture 2" descr="http://tbn3.google.com/images?q=tbn:kNorINouJjpG7M:http://www.uscsumter.edu/newsletter/sep07/dollar-sign.jpg">
            <a:hlinkClick r:id="rId2"/>
          </p:cNvPr>
          <p:cNvPicPr/>
          <p:nvPr/>
        </p:nvPicPr>
        <p:blipFill>
          <a:blip r:embed="rId3"/>
          <a:stretch/>
        </p:blipFill>
        <p:spPr>
          <a:xfrm>
            <a:off x="4648320" y="1828800"/>
            <a:ext cx="2546280" cy="359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17520"/>
            <a:ext cx="7493040" cy="1150920"/>
          </a:xfrm>
          <a:prstGeom prst="rect">
            <a:avLst/>
          </a:prstGeom>
          <a:ln w="0">
            <a:noFill/>
          </a:ln>
        </p:spPr>
      </p:pic>
      <p:sp>
        <p:nvSpPr>
          <p:cNvPr id="237"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finition: the deficit that would occur if we were at full employment </a:t>
            </a:r>
            <a:endParaRPr b="0" lang="en-US" sz="26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ax revenue is as high as expected and spending doesn’t have to increase</a:t>
            </a:r>
            <a:endParaRPr b="0" lang="en-US" sz="2300" spc="-1" strike="noStrike">
              <a:solidFill>
                <a:srgbClr val="6c6c6c"/>
              </a:solidFill>
              <a:latin typeface="Trebuchet MS"/>
            </a:endParaRPr>
          </a:p>
          <a:p>
            <a:pPr lvl="2" marL="743400" indent="-22392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es = spending at full employment </a:t>
            </a:r>
            <a:endParaRPr b="0" lang="en-US" sz="20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s long as we maintain full employment, the budget will be “balanced”</a:t>
            </a:r>
            <a:endParaRPr b="0" lang="en-US" sz="2300" spc="-1" strike="noStrike">
              <a:solidFill>
                <a:srgbClr val="6c6c6c"/>
              </a:solidFill>
              <a:latin typeface="Trebuchet MS"/>
            </a:endParaRPr>
          </a:p>
          <a:p>
            <a:pPr lvl="2" marL="743400" indent="-22392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is acceptable </a:t>
            </a:r>
            <a:endParaRPr b="0" lang="en-US" sz="2000" spc="-1" strike="noStrike">
              <a:solidFill>
                <a:srgbClr val="000000"/>
              </a:solidFill>
              <a:latin typeface="Trebuchet MS"/>
            </a:endParaRPr>
          </a:p>
          <a:p>
            <a:pPr lvl="2" marL="743400" indent="-22392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 would only get a deficit b/c of a war or a recession</a:t>
            </a:r>
            <a:endParaRPr b="0" lang="en-US" sz="2000" spc="-1" strike="noStrike">
              <a:solidFill>
                <a:srgbClr val="000000"/>
              </a:solidFill>
              <a:latin typeface="Trebuchet MS"/>
            </a:endParaRPr>
          </a:p>
          <a:p>
            <a:pPr lvl="1" marL="510120" indent="-22392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Problem: we have had deficits even during peace time with full employment </a:t>
            </a:r>
            <a:endParaRPr b="0" lang="en-US" sz="2300" spc="-1" strike="noStrike">
              <a:solidFill>
                <a:srgbClr val="6c6c6c"/>
              </a:solidFill>
              <a:latin typeface="Trebuchet MS"/>
            </a:endParaRPr>
          </a:p>
          <a:p>
            <a:pPr lvl="2" marL="743400" indent="-22392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 need to expect deficits even at full employment</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212760" y="317520"/>
            <a:ext cx="7493040" cy="1150920"/>
          </a:xfrm>
          <a:prstGeom prst="rect">
            <a:avLst/>
          </a:prstGeom>
          <a:ln w="0">
            <a:noFill/>
          </a:ln>
        </p:spPr>
      </p:pic>
      <p:sp>
        <p:nvSpPr>
          <p:cNvPr id="239" name=""/>
          <p:cNvSpPr txBox="1"/>
          <p:nvPr/>
        </p:nvSpPr>
        <p:spPr>
          <a:xfrm>
            <a:off x="228600" y="1609560"/>
            <a:ext cx="7238880" cy="5019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 – Repaying the enormous debt will ruin the nation</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e don’t have to worry about paying the debt b/c the gov’t will never die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ov’t can just roll over the debt or print extra money (will cause hyper inflation)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gov’t has limited borrowing capacity and possesses the danger of bankruptcy</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ov’t sets their own limits for borrowing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orse case scenario: just print more money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0" name="Picture 2" descr="http://tbn3.google.com/images?q=tbn:7Y5fqF36Wle0iM:http://www.financefirst.com.au/How%2520Much%2520Can%2520I%2520Borrow%2520Button%25201.gif"/>
          <p:cNvPicPr/>
          <p:nvPr/>
        </p:nvPicPr>
        <p:blipFill>
          <a:blip r:embed="rId2"/>
          <a:stretch/>
        </p:blipFill>
        <p:spPr>
          <a:xfrm>
            <a:off x="6324480" y="0"/>
            <a:ext cx="1733760" cy="173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12760" y="317520"/>
            <a:ext cx="7632720" cy="115092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uture generations will be burdened by heavy interest payments and high taxes will be needed to make paymen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Originally, bonds were mostly owned by Americans so when the bonds matured and the bonds had to be paid back to Americans so the money stayed within our econom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Now, however, 40-45% of US bonds are owned by foreigners so essentially the money is leaving our economy and creating a burden of high interest payments for our citizens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212760" y="317520"/>
            <a:ext cx="7493040" cy="1150920"/>
          </a:xfrm>
          <a:prstGeom prst="rect">
            <a:avLst/>
          </a:prstGeom>
          <a:ln w="0">
            <a:noFill/>
          </a:ln>
        </p:spPr>
      </p:pic>
      <p:sp>
        <p:nvSpPr>
          <p:cNvPr id="244" name=""/>
          <p:cNvSpPr txBox="1"/>
          <p:nvPr/>
        </p:nvSpPr>
        <p:spPr>
          <a:xfrm>
            <a:off x="228240" y="1609560"/>
            <a:ext cx="7543800" cy="5019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E. rate vs. PL (inflation rate)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rt-run P.C.</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verse relationship (downward sloping)</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Low levels of UE it is stimulated by AD, but when we have high levels of UE it is restricted by A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rade-off: in order for UE to be low, inflation must be high (vice versa) </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ong-run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Vertical Line </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ound at the natural rate of UE (PGDP – SCM)</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he faster Demand grows the higher inflation will be (and vice versa) with no effect on UE </a:t>
            </a:r>
            <a:endParaRPr b="0" lang="en-US" sz="2300" spc="-1" strike="noStrike">
              <a:solidFill>
                <a:srgbClr val="6c6c6c"/>
              </a:solidFill>
              <a:latin typeface="Trebuchet MS"/>
            </a:endParaRPr>
          </a:p>
        </p:txBody>
      </p:sp>
      <p:pic>
        <p:nvPicPr>
          <p:cNvPr id="245" name="Picture 6" descr="http://www.businessbookmall.com/Econom253.gif"/>
          <p:cNvPicPr/>
          <p:nvPr/>
        </p:nvPicPr>
        <p:blipFill>
          <a:blip r:embed="rId2"/>
          <a:srcRect l="0" t="0" r="8641" b="0"/>
          <a:stretch/>
        </p:blipFill>
        <p:spPr>
          <a:xfrm>
            <a:off x="5257800" y="0"/>
            <a:ext cx="2819520" cy="263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212760" y="317520"/>
            <a:ext cx="7493040" cy="115092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lieve that you can forecast inflation with the best available data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Not necessarily correct, often random </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f it was true, the short-run P.C. would be vertical </a:t>
            </a:r>
            <a:endParaRPr b="0" lang="en-US" sz="2300" spc="-1" strike="noStrike">
              <a:solidFill>
                <a:srgbClr val="6c6c6c"/>
              </a:solidFill>
              <a:latin typeface="Trebuchet MS"/>
            </a:endParaRPr>
          </a:p>
          <a:p>
            <a:pPr lvl="2" marL="758880" indent="-228600">
              <a:lnSpc>
                <a:spcPct val="9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lation would be able to reduce without a period of high UE</a:t>
            </a:r>
            <a:endParaRPr b="0" lang="en-US" sz="20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lieve that inflation is more costly than UE</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t>
            </a:r>
            <a:r>
              <a:rPr b="0" lang="en-US" sz="2300" spc="-1" strike="noStrike">
                <a:solidFill>
                  <a:srgbClr val="6c6c6c"/>
                </a:solidFill>
                <a:latin typeface="Trebuchet MS"/>
              </a:rPr>
              <a:t>It depend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rt-run P.C. is steep, expectations react quickly, and the Self-correcting Mechanism works smoothly and rapidly</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ll above are false</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6:06:03Z</dcterms:created>
  <dc:creator>jwussler</dc:creator>
  <dc:description/>
  <dc:language>en-US</dc:language>
  <cp:lastModifiedBy>HP Authorized Customer</cp:lastModifiedBy>
  <dcterms:modified xsi:type="dcterms:W3CDTF">2009-01-27T22:11:13Z</dcterms:modified>
  <cp:revision>20</cp:revision>
  <dc:subject/>
  <dc:title>Unit 9 (Chapters 33-34)</dc:title>
</cp:coreProperties>
</file>